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4899-CA9C-4707-9216-813AA06A21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4885-43B7-4A2C-A8BE-C23FD7EC00C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F3F9-87E7-4D60-B9A8-A51402149C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2DD9-7F1A-4E88-A902-08E2D93929E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287A-7738-40DF-AC28-5F26DA2B710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053C-7006-4328-86F8-6585979009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D96D-4C04-4C12-94CD-BEA1DEB2BB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2EB6-C0A5-4043-B156-0770290B0F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1031-3AC8-401B-9B16-B3C74D52E96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318F-8DE6-47A0-984B-A57F618C80A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F15C-60E1-46A1-8A3A-EDAD2CB768D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B612-32ED-48A7-A695-A5DC9504D3B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49E1-2F5A-4096-BB6C-E95F10A76B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259D-615D-4067-913C-9CF58C8951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4433-C1B8-4CE5-8ED1-D04CAE7A786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0804-CD5C-4575-BB8A-57EBDD887E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2820-6CD6-4188-84C6-43CF0FBF1E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14B2-6E08-4D6D-BAF5-31EDC331E85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81AE-B14E-472E-B9B2-19127A395E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7CE7-F4ED-4534-8A92-96BA8B2709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0F10-F6FD-49E0-9DFB-8708CACB67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461F-2BC5-4BBD-94D7-AE4F07C797D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2F5C-D5A0-4116-85FF-2C460EED20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C937-5D65-4B0A-A944-21804922E9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06C0-40EE-4DE6-AAA1-77E05D22986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E7FC-9DFE-4303-A752-DC98F1981C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EDF1-CB62-4DC3-BDD1-45B36938424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208A-B28A-4D49-94EF-09B97072E6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D50D-E536-45FC-B91E-605F79FCEC7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5166-DC5A-4205-B325-F8A305C460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CF25-5BEC-40F1-8384-57ECF863815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B018-D302-4491-94ED-9F7BE4965D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4341-E079-4FB1-8BBC-31B1DAC09D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5C8B-D711-437F-8341-B5D63AD51D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F962-4502-404D-AAB9-42A714CF41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142-91CD-48B0-888C-92AE954D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68B-D05B-4269-B210-1E6DED5F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9E1-0A79-4D4B-8FDC-6D2B9FC6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795-AE4B-4873-A3DF-BFD5E6FE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AF3-411B-464A-A138-3D63300B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625-1DDE-49C1-9DD1-F7B750FF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700-8145-454C-901F-1B9D6A05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3A7-1980-49E1-83F2-DE12A661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BE0-4FE6-47EF-AFFC-4DEF4D2C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CCA-2A26-447E-BCF0-396C3C2C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CBA-FCBF-41EA-840B-0A689B24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90B-AD66-4C4D-888F-0F983AA5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3AEF-1C54-41B8-B8CA-319ACACE6D94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2095200" y="6389640"/>
            <a:ext cx="28112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집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姐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ěji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언니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누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没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éiyǒ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없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명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양사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孩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ái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아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儿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ér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아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女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ǚ'é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hē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정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可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ě'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귀엽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6466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h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이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이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妹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6466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mèime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여동생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1844640" y="6389640"/>
            <a:ext cx="324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ǒ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있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u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살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, 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历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ìsh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역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ō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얼마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크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年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iánj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나이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연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爷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éy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할아버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奶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ǎina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할머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姥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y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외할아버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姥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la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외할머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1844640" y="6389640"/>
            <a:ext cx="324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叔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ūsh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삼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漂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piàolia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예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uà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멋지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年级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iánj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학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高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gāozhō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고등학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口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1844640" y="6389640"/>
            <a:ext cx="324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ǒ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식구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양사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1412640" y="6389640"/>
            <a:ext cx="3816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é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누구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爸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àb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아빠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妈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ām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엄마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弟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ìd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남동생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é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와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과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2:35:48Z</dcterms:created>
  <dc:creator>System</dc:creator>
  <dc:description/>
  <dc:language>en-US</dc:language>
  <cp:lastModifiedBy>System</cp:lastModifiedBy>
  <dcterms:modified xsi:type="dcterms:W3CDTF">2014-01-24T03:05:50Z</dcterms:modified>
  <cp:revision>3</cp:revision>
  <dc:subject/>
  <dc:title>슬라이드 1</dc:title>
</cp:coreProperties>
</file>